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70D3-4B66-4444-9B9C-AC06C7638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9DDF-15B8-43AA-B564-C99019CB5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C07B-347B-4260-9478-50EEE76EE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5503-2000-4AC1-A162-B04C43523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3A76-D07D-4861-B852-ED8B26752F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1DF4-2D53-4AD3-902F-BE5BAE4C7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41B1-5307-4075-9B19-914033DC1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3403-A9C5-424A-B3F3-CEDF70D49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60C7-10BD-4068-8FA0-893A139AA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970A-FB67-4A56-AD2D-078544BA8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7CAA-FD38-48CB-A620-CB951C80D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F3A0-2AA7-4223-8D6D-C8F60324A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sv-SE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EB2E2D-F2D9-4957-A9CA-8DB6C3E981C3}" type="slidenum">
              <a:rPr b="0" lang="sv-SE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upload.wikimedia.org/wikipedia/commons/f/fc/Hydroelectric_dam_without_text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Power Generation for Wroc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427640" y="5950080"/>
            <a:ext cx="44956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T project by Malena, grad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d6e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00040" y="1928520"/>
            <a:ext cx="822816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formations:    &amp;    Pi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pedia                 Googl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iki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65a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81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Arial"/>
              </a:rPr>
              <a:t>Thank you for watching my presentation,                                     I hope you liked 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 u="sng">
                <a:solidFill>
                  <a:srgbClr val="000000"/>
                </a:solidFill>
                <a:uFillTx/>
                <a:latin typeface="Arial"/>
              </a:rPr>
              <a:t>Technologies op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Coal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Arial"/>
              </a:rPr>
              <a:t>Hydro p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2303640" cy="145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2303280" cy="1538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2158920" cy="16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ricity gene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echnologies need a generator that turns. A rotating generator creates electrical power (voltage, curr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the technologies is how to make the generator tu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 is sent around the country using high-voltage power lines. Nearly all of the power we use comes from large power st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 u="sng">
                <a:solidFill>
                  <a:srgbClr val="000000"/>
                </a:solidFill>
                <a:uFillTx/>
                <a:latin typeface="Arial"/>
              </a:rPr>
              <a:t>Wind p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68360" y="1628640"/>
            <a:ext cx="82296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 power plants use the wind. Wind blows into the blades (turbine) that start to rotate and turn the gene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pollution and very saf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cost for any fuel. The wind is for fre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her easy and quick to install and take a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so powerful, many mills are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ther costly to build per power gener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ind does not blow all the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y and some people find the mills ug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built where it is win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314820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 u="sng">
                <a:solidFill>
                  <a:srgbClr val="000000"/>
                </a:solidFill>
                <a:uFillTx/>
                <a:latin typeface="Arial"/>
              </a:rPr>
              <a:t>Coal p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68360" y="1628640"/>
            <a:ext cx="82296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l powder is burned in high temperature to produce very hot water steam. This steam is put on the blades in a turbine that drives the generator to tu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 is cheap and is not scarce. A lot in Po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ful, cheap produced electr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uilt almost anyw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warming, not renewabl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 to take a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6732720" y="2637000"/>
            <a:ext cx="1769760" cy="1808280"/>
            <a:chOff x="6732720" y="2637000"/>
            <a:chExt cx="1769760" cy="1808280"/>
          </a:xfrm>
        </p:grpSpPr>
        <p:pic>
          <p:nvPicPr>
            <p:cNvPr id="56" name="Picture 4" descr=""/>
            <p:cNvPicPr/>
            <p:nvPr/>
          </p:nvPicPr>
          <p:blipFill>
            <a:blip r:embed="rId1"/>
            <a:stretch/>
          </p:blipFill>
          <p:spPr>
            <a:xfrm>
              <a:off x="6732720" y="2637000"/>
              <a:ext cx="1769760" cy="17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6735240" y="40770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ffffff"/>
                  </a:solidFill>
                  <a:latin typeface="Arial"/>
                </a:rPr>
                <a:t>turb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6300720" y="4653000"/>
            <a:ext cx="2303640" cy="1547640"/>
          </a:xfrm>
          <a:prstGeom prst="rect">
            <a:avLst/>
          </a:prstGeom>
          <a:ln w="0">
            <a:noFill/>
          </a:ln>
        </p:spPr>
      </p:pic>
      <p:sp>
        <p:nvSpPr>
          <p:cNvPr id="59" name="Line 7"/>
          <p:cNvSpPr/>
          <p:nvPr/>
        </p:nvSpPr>
        <p:spPr>
          <a:xfrm>
            <a:off x="5508720" y="2205000"/>
            <a:ext cx="223200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cccc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sv-SE" sz="4400" spc="-1" strike="noStrike" u="sng">
                <a:solidFill>
                  <a:srgbClr val="000000"/>
                </a:solidFill>
                <a:uFillTx/>
                <a:latin typeface="Arial"/>
              </a:rPr>
              <a:t>Hydro po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179280" y="1484280"/>
            <a:ext cx="87138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in a dam is let out through a hole deep under water. Then the pressure is strong enough to make the water turn the blades in a turbine that drives the generator to tu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is f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powerful, cheap produced electr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l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o build it at waterfalls. Can be far from c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d for animals and fish after the d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 and long time to bui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ive to take a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dam brakes it will be a very big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300720" y="450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2492280"/>
            <a:ext cx="2376720" cy="177984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>
            <a:off x="3203640" y="2276640"/>
            <a:ext cx="4248000" cy="129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7557840" y="2160720"/>
            <a:ext cx="903240" cy="1619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roclaw nee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1566720"/>
            <a:ext cx="822960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plant: 270 M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use: 2,4 TW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money: 1379 million z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y that can bu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ast is it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11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mp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9560" y="1112760"/>
          <a:ext cx="7710840" cy="5275440"/>
        </p:xfrm>
        <a:graphic>
          <a:graphicData uri="http://schemas.openxmlformats.org/drawingml/2006/table">
            <a:tbl>
              <a:tblPr/>
              <a:tblGrid>
                <a:gridCol w="1927440"/>
                <a:gridCol w="1928880"/>
                <a:gridCol w="1927080"/>
                <a:gridCol w="192744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lutio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to buil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than 1 yea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to buil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0000000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75000000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000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000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mi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00000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5000000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 outp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 M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 M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 M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to produc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 grosz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0222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35974 Z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fu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are need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ar Wroclaw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 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158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 And Hy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coal makes a lot of pollution and that is bad. For Wind the fuel is free and so for Hydro. Wind is also cheap and does not take a long time to build but the wind does not blow all the time. Hydro lasts for a long time and is very powerful but takes 3 years to bu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7:31:55Z</dcterms:created>
  <dc:creator>Jon Sintorn</dc:creator>
  <dc:description/>
  <dc:language>en-US</dc:language>
  <cp:lastModifiedBy>nauczyciel075n</cp:lastModifiedBy>
  <dcterms:modified xsi:type="dcterms:W3CDTF">2009-03-27T09:46:01Z</dcterms:modified>
  <cp:revision>33</cp:revision>
  <dc:subject/>
  <dc:title>Power Generation for Wroclaw</dc:title>
</cp:coreProperties>
</file>